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7A72-65CD-4690-B50F-07AE5ECBD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2763-6A6E-46CA-8313-B4BBAEF6F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E967-8C4B-4C1D-9421-F1A9E0AA4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45A4-31FC-4805-AEE7-256BD5D34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5230-A844-45FD-9449-EB711252E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0526-2D2E-41AF-92C8-61AE2C748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19BA-0B6C-45AD-A07E-E7FE53929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7698-3B43-4299-B9E3-E4D9BA20F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C2F9-8D99-405D-97F4-608143CC5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36DF-CC16-4F17-BBEE-FCD9DEB8C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EE25-541A-4E78-9331-387B94BC4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F866-1D6D-4B24-A5EA-55D1ED0D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A5B3E-3FA7-4591-BAAD-7B80908914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ww.programming.in.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842472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://thailandoi.or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06200" y="1773360"/>
            <a:ext cx="9037800" cy="42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5T03:07:28Z</dcterms:created>
  <dc:creator>Administrator</dc:creator>
  <dc:description/>
  <dc:language>en-US</dc:language>
  <cp:lastModifiedBy>Administrator</cp:lastModifiedBy>
  <dcterms:modified xsi:type="dcterms:W3CDTF">2009-05-15T03:13:09Z</dcterms:modified>
  <cp:revision>1</cp:revision>
  <dc:subject/>
  <dc:title>www.programming.in.th</dc:title>
</cp:coreProperties>
</file>