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B717-037F-4542-8EDF-BFB059962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DADE-DF6E-4361-88C4-9C1C15395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53EA-FC85-4AA5-98B8-591A426D5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4DAC-EF83-41E6-A1FF-26941694F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003B-6840-45B4-AF9B-6461893A8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5FC9-06A8-4628-BFB3-9A66B4787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4921-9BCD-4756-9A39-FF3C32167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4994-F453-4320-A51E-06D60C7AE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ACE2-97F5-4D20-A990-80773E1E0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84F5-961C-44BF-8289-1355DC569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3CF1-304D-40AE-A42A-D187293E0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E674-6BAD-476D-83BF-3DF9495C7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2589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58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187280" y="0"/>
          <a:ext cx="1224000" cy="11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0"/>
                    <a:ext cx="1224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E8C5-0A83-4A8A-9848-03AD5FA6A89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852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# IDE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Sharp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1" name="" descr="Welcome to SharpDevelop, the open source IDE for .NET, supporting C#, VB.NET and Boo on .NET Framework 1.1, 2.0 and Mono"/>
          <p:cNvPicPr/>
          <p:nvPr/>
        </p:nvPicPr>
        <p:blipFill>
          <a:blip r:embed="rId1"/>
          <a:stretch/>
        </p:blipFill>
        <p:spPr>
          <a:xfrm>
            <a:off x="611280" y="990720"/>
            <a:ext cx="77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C# Studio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24769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Mono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7" name="" descr="ss-main-window.png"/>
          <p:cNvPicPr/>
          <p:nvPr/>
        </p:nvPicPr>
        <p:blipFill>
          <a:blip r:embed="rId1"/>
          <a:stretch/>
        </p:blipFill>
        <p:spPr>
          <a:xfrm>
            <a:off x="539640" y="1127160"/>
            <a:ext cx="7704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XACC.IDE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178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WEB SITES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friend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ourc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ne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hai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pace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liv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sd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icrosof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e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u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v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defaul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asp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woguru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playground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_tutorial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inde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2:13:45Z</dcterms:created>
  <dc:creator>Com_ipst</dc:creator>
  <dc:description/>
  <dc:language>en-US</dc:language>
  <cp:lastModifiedBy>Com_ipst</cp:lastModifiedBy>
  <dcterms:modified xsi:type="dcterms:W3CDTF">2009-05-15T02:22:29Z</dcterms:modified>
  <cp:revision>3</cp:revision>
  <dc:subject/>
  <dc:title>C# IDE</dc:title>
</cp:coreProperties>
</file>